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BF8-0AA4-4CD9-9A80-7829C518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F97-9563-4E4A-BB73-329139E6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03A-208B-4A64-A41E-64216D3C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869-D78C-4BB2-93B6-F43CEDEB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2BB-CAD9-43D9-9F1D-42BB51C0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5C5-B062-41BB-A636-40FADA63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733-A28E-4596-9EE6-4B69CE4F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470-278C-446D-B376-26C40B0F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4F4-F92E-4BB7-A23F-8CF2251D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05E-1B25-40B6-B1D6-4538202E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053-6E67-4CB9-AF43-0F9DA87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6F0-63AF-4065-B418-8405F46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85B1-900E-42BB-B2FD-5EBA3B1D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s and Dwarf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an L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athan Ol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Na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brought to you by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 Ruu Corp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-228600" y="228600"/>
          <a:ext cx="95248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28600"/>
                    <a:ext cx="9524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-152280"/>
          <a:ext cx="8686800" cy="727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152280"/>
                    <a:ext cx="8686800" cy="72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500040"/>
          <a:ext cx="9296280" cy="63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0040"/>
                    <a:ext cx="92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lanet Fa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et - A spherical object in space that has its own atmosphere and orbits a much bigger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arther a planet is away from what it orbits, the longer the orbital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y Planet that has less than 10 moons, is considered a small planet, or a dwarf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so any planet with a diameter that is bigger than 2.0 is considered a big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farther away a planet is from the Sun, the longer the Orbital Period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You for watc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5:44:30Z</dcterms:created>
  <dc:creator>mchamorro</dc:creator>
  <dc:description/>
  <dc:language>en-US</dc:language>
  <cp:lastModifiedBy>Amphitheater Public Schools</cp:lastModifiedBy>
  <dcterms:modified xsi:type="dcterms:W3CDTF">2011-02-15T15:59:37Z</dcterms:modified>
  <cp:revision>3</cp:revision>
  <dc:subject/>
  <dc:title>Planets and Dwarf Planets</dc:title>
</cp:coreProperties>
</file>